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6B2-A58B-4721-A94A-7A455B6B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A1B-0C12-469D-AB55-80DC048C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663-A9CC-4067-8209-4EDAAB07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5E3-082D-4782-9419-BCA47382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11717-BFA9-4E1B-8201-8710BB92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68EBF-7D3D-4AD0-87F1-077CB572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45D1E-1984-4089-BAF2-1D3BAC3B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A6581-18AB-4C79-895B-29DB562C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3A79F-4C4B-431C-AC42-36095859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338E2-3657-4543-8A53-D7629539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C052F-B188-4D9D-86D9-7E669B5E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530-C21C-4E0A-805D-0424C44B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77335-8174-4838-9145-7814A904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3A5F2-E57D-48B1-8764-726D5551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36301-9BC7-48CB-A546-2A0BA45B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EAD0E-D146-4577-A79E-49219103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F4C56-8061-4981-BF5D-D83D6579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748-E702-4A4D-B8D0-BBB2B949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E98-649A-432A-9D56-D2EC5145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598-2C7B-4B06-9826-A24ECEFA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011-9F64-47B0-B0C5-FA931A9A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0EC-2436-4BA9-B03C-B767BBB5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160-45D5-4130-AFA2-6B2BCF9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E04-1860-46A8-888B-FB444234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C2CE-D17F-448A-8E53-D1A889CA63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1D30-FE1B-497D-AD5D-850E4C95C5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euch.ru/referat/12433.html" TargetMode="External"/><Relationship Id="rId2" Type="http://schemas.openxmlformats.org/officeDocument/2006/relationships/hyperlink" Target="http://www.neuch.ru/referat/12433.html" TargetMode="External"/><Relationship Id="rId3" Type="http://schemas.openxmlformats.org/officeDocument/2006/relationships/hyperlink" Target="http://www.neuch.ru/referat/12433.html" TargetMode="External"/><Relationship Id="rId4" Type="http://schemas.openxmlformats.org/officeDocument/2006/relationships/hyperlink" Target="http://www.neuch.ru/referat/12433.html" TargetMode="External"/><Relationship Id="rId5" Type="http://schemas.openxmlformats.org/officeDocument/2006/relationships/hyperlink" Target="http://www.neuch.ru/referat/12433.html" TargetMode="External"/><Relationship Id="rId6" Type="http://schemas.openxmlformats.org/officeDocument/2006/relationships/hyperlink" Target="http://www.neuch.ru/referat/12433.html" TargetMode="External"/><Relationship Id="rId7" Type="http://schemas.openxmlformats.org/officeDocument/2006/relationships/hyperlink" Target="http://smallbay.ru/architec011.html" TargetMode="External"/><Relationship Id="rId8" Type="http://schemas.openxmlformats.org/officeDocument/2006/relationships/hyperlink" Target="http://smallbay.ru/architec011.html" TargetMode="External"/><Relationship Id="rId9" Type="http://schemas.openxmlformats.org/officeDocument/2006/relationships/hyperlink" Target="http://smallbay.ru/architec011.html" TargetMode="External"/><Relationship Id="rId10" Type="http://schemas.openxmlformats.org/officeDocument/2006/relationships/hyperlink" Target="http://smallbay.ru/architec011.html" TargetMode="External"/><Relationship Id="rId11" Type="http://schemas.openxmlformats.org/officeDocument/2006/relationships/hyperlink" Target="http://www.bestreferat.ru/referat-43924.html" TargetMode="External"/><Relationship Id="rId12" Type="http://schemas.openxmlformats.org/officeDocument/2006/relationships/hyperlink" Target="http://www.bestreferat.ru/referat-43924.html" TargetMode="External"/><Relationship Id="rId13" Type="http://schemas.openxmlformats.org/officeDocument/2006/relationships/hyperlink" Target="http://www.bestreferat.ru/referat-43924.html" TargetMode="External"/><Relationship Id="rId14" Type="http://schemas.openxmlformats.org/officeDocument/2006/relationships/hyperlink" Target="http://www.bestreferat.ru/referat-43924.html" TargetMode="External"/><Relationship Id="rId15" Type="http://schemas.openxmlformats.org/officeDocument/2006/relationships/hyperlink" Target="http://www.artprojekt.ru/Architecture/Ancient/Egypt.html" TargetMode="External"/><Relationship Id="rId16" Type="http://schemas.openxmlformats.org/officeDocument/2006/relationships/hyperlink" Target="http://www.artprojekt.ru/Architecture/Ancient/Egypt.html" TargetMode="Externa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60948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0000"/>
                </a:solidFill>
                <a:latin typeface="Times New Roman"/>
              </a:rPr>
              <a:t>Архитектура Древнего Египт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51814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История, 6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685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Представление результатов проек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752480"/>
            <a:ext cx="7315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* Презент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* Букле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* Фотоотч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* Сочин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* Филь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609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Информационные ресурс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905120"/>
            <a:ext cx="79250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www.neuch.ru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referat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/12433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http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://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smallbay.ru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/architec011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1"/>
              </a:rPr>
              <a:t>http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2"/>
              </a:rPr>
              <a:t>://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3"/>
              </a:rPr>
              <a:t>www.bestreferat.ru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4"/>
              </a:rPr>
              <a:t>/referat-43924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5"/>
              </a:rPr>
              <a:t>http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6"/>
              </a:rPr>
              <a:t>://www.artprojekt.ru/Architecture/Ancient/Egypt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685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Автор проек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133720"/>
            <a:ext cx="6476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Студентка 4 курс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Филологического факульте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341 групп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Селиванова Надеж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6002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00"/>
                </a:solidFill>
                <a:latin typeface="Times New Roman"/>
              </a:rPr>
              <a:t>Спасибо за внимание!!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6094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Почему не угасает интерес к культурному наследию Древнего Египта в наши дн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64804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762120"/>
            <a:ext cx="80010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Проблемные вопрос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* Как зародилась древнеегипетская архитекту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* Почему египетские пирамиды входят в одно из семи чудес све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685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Частные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99840"/>
            <a:ext cx="81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* Какие периоды развития были присущи  древнеегипетской культур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894760"/>
            <a:ext cx="80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* Как велось строительство пирамид и храм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021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* С какой целью строились пирамиды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02848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* Какой смысл вкладывался в изображения скульптур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6094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В ходе изучения проекта мы познакомимся с такими архитектурными памятниками как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8954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* Большой Сфинк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86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*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952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* Хра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 (700x525, 18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Большой Сфинк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1235590893_chudesa_egypt (700x560, 20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609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Пирами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5335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Хра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685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Продолжительность изучения данного курс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28954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276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Проект рассчитан на 6 ча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1-04-08T20:40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